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677-9C59-4003-8A4E-5D4D6AF8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0EF-5A54-403A-9168-F48E337A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3D8-571E-422F-9BB2-6A191E00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1F3-E14B-4D24-8176-347B6D06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5CC-22C5-4189-B384-D13BCC76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888-12EC-4197-B740-D5F17E5C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141-40AC-46A0-83B8-E3CC3C0A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4A7-485F-45FC-9DF9-8A7E466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D18-A549-4BFF-A4E3-361ED82C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E86-7804-4C61-8AD3-A44063B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B40-1D09-485A-8A39-A35843F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BE3-30EC-43C2-8E93-9F6F33F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DB67-C16E-4964-B1CE-7576EE3C1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324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КОЕПИДЕМИОЛОГИЈУ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28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 report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у којима се приказују појединачни случајеви пацијената са ретким болестима или код којих се након примене лека испољил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 нежељено дејство или неспецифичан клинички налаз који може бити значајан стручној ја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- постављање хипотеза које се у будућим, опсежнијим истраживањима мора тести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е случајев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0" i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eries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студијам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пацијенат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 леку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о исход се прати појава жељеног терапијског исхода ил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нежељене реакц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 студијама се може пратити група пацијената са већ испољеном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едицинском смислу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ајном појавом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у циљу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тход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оженост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 фактору или лек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трендов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у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е студије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има се квантификује повезаност између тренда појаве одређеног медицинског стања у популацији и тренда заступљености одређеног фактора којем је популација била излож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есека (eng. cross-sectiona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верзалне“ студ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 у једном одређеном временском интервалу одређују изложеност фактору од интереса као и присуство клинички значајног стања у датој попул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популације, евалуација присуства фактора ризика и болести од интереса и анализа добијених подат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о-анлитичког диз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 процењују постојање статистичке повезаности између евалуираних фактора ризика и појаве болести или исхода од интер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у врсту дизајна показују кохортне студ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cohort study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студије случај-контрол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eng. case-control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130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хо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упа људи са заједничким иску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типу студиј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евалуира повезаност између фактора ризика и здравствених исхода од интереса што омогућава сагледавање етиологије испитиване боле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истраживања: Утврђивање учесталости обољења у испитиваним популацијама, пропорције оболелих међу изложеним и нелизоженим пацијен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гитудиналне студије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ивне/ретроспекти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 у IV фази клиничких истражив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own Arrow 4"/>
          <p:cNvSpPr/>
          <p:nvPr/>
        </p:nvSpPr>
        <p:spPr>
          <a:xfrm>
            <a:off x="6732720" y="2349360"/>
            <a:ext cx="360360" cy="2374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4100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фикација изложе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спективним студијама лако се доказује временска веза између изложености леку и посматраног и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уочити ретке пој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хтевају рандомизацију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тр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е 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број испита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убитак" пациј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onfounding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election bias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Recall bias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случај контрол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case-control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оде на мањем броју испитаника и краће трају у однос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хортне студиј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студијама се прати повезаност испољавањ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 од значаја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упи пацијената и изложеност ове групе лек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4"/>
          <p:cNvSpPr/>
          <p:nvPr/>
        </p:nvSpPr>
        <p:spPr>
          <a:xfrm>
            <a:off x="6516720" y="2276640"/>
            <a:ext cx="576360" cy="29527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ипа случај-контрола (eng. case-contro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ћене су две групе пацијената, „случајеви“ и „ контроле“ које су по свему сличне осим по испитиваној болести или испољеном исходу од интереса (нпр. нежељено дејство лек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контролне групе у односу на општу поп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„случајева“ у односу на стварну популацију пацијената који имају дату бо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домизирана клиничка студи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. randomized controlled trial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нтервентна студија у којој две групе пацијената које су по свему сличне сем по изложености леку се након експозиције посматрају у смислу испољавања било терапијског ефекта било нежељеног деј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и стандард“у фармакоепидемилогиј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и за поређење лека у односу на други лек или плацебо у смислу ефикасности и/или безб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н усл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домизације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н услов „маскираности“!!! (двострука/једностру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употребе лекова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drug utilization research) имају за циљ да опишу схеме употребе лекова и да идентификују проблеме везане за употребу и потрошњу ле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која проучава дистрибуције и одлике здравствених стања и догађаја унутар опште популације, као и примену ових сазнања у циљу контроле здравственог стања 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ечна дневна доза лека у терапији одржавања за основну индикацију код одраслих особа која се додељује само за лекове који имају АТЦ к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за неки лек је договорена доза лека коју је усвојила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експерата Светске Здравствене Организације која одражава најчешће прописивану дневну количину тог 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треба схватит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о јединицу мер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а не подразумева у сваком случају исту вредност и за прописану дневну доз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треба да осликава уопштену вредност дозе независну од генетичких и других варијациј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не додељује з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препара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неопластичне лек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 алерг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анестет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јединице мере ДДД се користе следеће ознак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г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к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љаде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они пако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хал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блингвал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 – трансдермал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залн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кт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алн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рентер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ДДД се додељује једном АТЦ коду, односно начину приме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додељује тек пошто је лек одобрен и пласиран макар у једној земљ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пстанце намењене за третман ретких болести које се дозирају индивидуално, стручна тела и радне групе могу одобрити употребу и без ДДД-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а доза намењена одраслима за главну индикацију одређена је АТЦ кодом, и подразумева примену код одраслих особа на тт од 7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к и фармацеутске форме намењене углавном деци имају ДДД прерачунате за одрасле (сем хормона раста, таблета флу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 одржавања се утврђује пошто се леку додели Д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једине групе лекова важе одређени принципи за додељивање Д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додељује на ос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 утврђеног састава лековите супстанце, помоћне лековите супстанце не мењају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 стереоизомери  захтевају посебан АТЦ код, али и посебну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екови имају исти АТЦ код па и исту ДДД као и ле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је обично идентична за различите облике једног истог л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е се посебне ДДД, уколико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 пут примене лека подразумева и различиту биоискористљив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ако с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облици једног лека користе за различите индика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арентерална фракција представља незнатни део укупне примене лека нема потребе за посебном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оизводи намењени за  интрамускуларну и интравенску примену имају идентичну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 представља скоро увек "компромис", јер је резултат прегледа и анлизе доступне литературе која укључује и податке о дозама које се користе за одређену индикацију у различтим регионим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принципе епидемиологије примарно на проучавање клиничке употребе лекова у општој попул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е дефиниције фармакоепидемиологије истичу њен значај као науке која "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потребу и ефекте/нежељене ефекте лекова у великом броју пацијената а са циљем рационалније, ефикасније али и исплативије употребе лекова и унапређењу исхода лечењ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а примен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нет ресурса који се односе на АТЦ/ДДД концеп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ДДД свак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се може наћи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ајту Светске Здравствене Организ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рагом Листе лекова које финансира РФЗО http://www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zzo.sr.gov.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терапијском приру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повремено ревидирају и мењају, сходно истим принципима који важе и за усвајање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промене су минорне, и за њих је задужена Међународна радна група за статистику и методологију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ћење потрош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ог система у оквиру којег се употребљ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евидентирају и прате у погледу потрошње – употреб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TC/DDD методоло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кa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DDD на 100 болесничких дана (у болничким условим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о број DDD на 1000 становника (у друштве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једн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вредност DDD сваком леку се додељ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TC к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ове параметре, може се доделити и монетар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свакој DD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надним математичким операција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утврдити алокацију буџета, као и идентификацију лекова који захтевају највише улагања у економском смис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BC анали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Better Control analy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 анали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Vital, Essential, Desirable analysis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– наука која проучава лекове кроз медицинско –  здравствени, економски и друштвени аспект деловања у условима њихове терапијск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ава сазнања о лековима која су проистекла из клиничких испитивања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и за процену односа користи и ризика примене 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јесте орјентисана примарно 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И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ћи безбедност и ефикасност појединачних лекова или група лекова или 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 ЛЕКО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унапређивања квалитета примене лекова употребом педагошких (едукативних) интервенција међу здравственим професионалци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фармакоепидем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фикасности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утицаја деловања истовремене примене неколико груп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описивања и коришћењ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луација односа користи и ризика примењеног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риптивне (некомпаративне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описују схеме употребе лекова у ретроспективном или проспективном маниру“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(компаративне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у факторе ризика који могу утицати на употребу и потрош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е 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ју утицај интервенције или фактора ризика на изложену поп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 додељује интервенцију (профилактичку, терапијску, едукативну) групи испитаника са циљем евалуације утицаја интервенције на исход од интереса у односу на групу која није била изложена интервен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ог диз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иказа појединачног случаја (eng. case report stud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серије случаја (eng. case se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есека (eng. cross-sectional stud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10:26:53Z</dcterms:created>
  <dc:creator>Author</dc:creator>
  <dc:description/>
  <dc:language>en-US</dc:language>
  <cp:lastModifiedBy>Marina Kostic</cp:lastModifiedBy>
  <dcterms:modified xsi:type="dcterms:W3CDTF">2023-09-11T10:10:09Z</dcterms:modified>
  <cp:revision>32</cp:revision>
  <dc:subject/>
  <dc:title>УВОД У ФАРМАКОЕПИДЕМИОЛОГИЈУ</dc:title>
</cp:coreProperties>
</file>